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F58-FF7D-4D93-A5A1-78B41DD4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4C7-2586-408F-8C8A-EA5D7361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A8E-C8E5-4A2C-8115-55430DB6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AEB-F50F-4467-9298-70D8B544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4DD5-E5A3-4579-867B-E34A119A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CD68-7E97-4A6C-995C-BB539FA3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A92E-6E7B-4C1F-AE53-EB5535D2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F3E0-7569-4799-B55E-95C9A5C5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02D9-D692-4DFA-A90F-C43A4DA5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E940-2EB5-4473-ADCB-32C46305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E7E0-70D7-4E44-8948-3E6175A7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6B8-BF0F-4A44-936B-335D3140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2F3C-D20B-49EE-9137-7397F473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CD72-2FEA-4586-9305-F6F2DCA2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5E0B-584F-4B5E-A0C8-38D9B31B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BA61-B4A3-4EBE-832F-CCD345EE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9E5C-A1EC-4D84-9096-C4679A84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6930-ED83-4F45-A337-1A463FF9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6653-0EA0-406B-A081-24CD63A7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6A334-A261-4201-90A3-74EB29E8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92B6-DD90-4A8F-BD0B-D4560ABA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08822-74CE-43D5-A93D-2391EDEE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CCD-4848-4D0C-864A-04900389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5AF3-5CFA-45FF-800D-42AC43C8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9C00A-6F60-4954-87B4-983ECF3B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A5D7-5301-4464-AA37-4487305C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6C0F-4BC7-4E12-8CE0-9090B8BB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BB97-EB05-4363-A954-1040E3C1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7269-6033-44E5-826C-90D0D0A2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F7A1D-3A09-40EC-9B5F-9B0BB29B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E6410-B49E-4AA3-8E1E-9F998155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8E34-4F44-43C5-A349-E12F5308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5D3E4-FF82-4EF7-A116-3A49DD04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89F-8731-468F-8FD7-5F11F66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02154-6EB4-41A8-9C30-F903688F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28D3-F039-46A8-A96C-CB9B5FAF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F252F-C259-4BA4-AD15-E3A2865B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3606-11D0-42C5-9422-A8F1001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5A33-D215-4D74-81AB-3514844E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8CAE3-FA78-4A12-B0F8-9EB4FC11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94D4F-132C-4738-B33C-46DF4AA8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5FDC-154F-4CD7-8DB2-D99D33A0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10C7-4349-4C84-B10D-C53EF77C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6C65A-B993-4EC7-9F42-91C7677A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90A-CC78-46D9-BF03-C91B2F15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9022B-1049-4F68-86F1-FECC87B2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8D41C-5156-4BCE-A5D5-D063B88B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88EB6-32CE-484F-BB20-2DB4E859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BD04C-070F-47C8-9A3E-7704C9AD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BA491-2C25-498B-8C0A-AE88DBA3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26C4A-D9E5-4645-9275-29F7BF7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56EF0-A5C2-4841-A149-22DC2FC7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EE0A4-C6C6-4C9D-AC0D-7F60FAAA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9B2EA-8558-461F-956C-631F577B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CABB2-24C5-4D30-B6FD-45152607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84D-E5A9-4592-9359-7291B45B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4B599-1BF7-4A34-B92E-B831C310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9CD2C-D5AE-4E17-8534-9A03A7B4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801CD-14F1-45D8-8900-C1B1D0A0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907B8-57A1-4977-9F5A-9C05520A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F053D-BF9F-4938-9037-14F0D9E6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4F379-C43E-456C-B885-288DD91B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4D716-4A78-48F0-AE2A-56AAEB88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C1E04-EBEA-43EB-930D-31A0DC24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4C465-857A-4AD3-AE13-7A161ADC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B3310-88F7-4D11-AC33-D831F001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B2C-3EEA-4714-AFBC-2F530BC9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FC405-F5BD-4B70-AD0F-CFAD4DA4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B3FDC-9F66-4CB7-9A74-53162548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1715F-1F01-4794-8603-4C8BC747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683F4-F988-43A7-AB99-9CE672A1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972D9-EBAE-440B-9EDF-1C6E8B82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09AB8-A4C4-4BA0-98BC-C41D8B3E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3D1F6-2141-486B-BF71-8AF94FC5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62FE4-9105-493B-BE4F-CFB93917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F8056-5FDF-47F6-98D8-6CC6ECE6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6F979-E5C6-4060-A210-7315AD9E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549-EC98-4E4C-8018-096BB33B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0DE39-7F88-4432-A168-314C0B2B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0C220-E9E3-4406-88ED-D09FA8AE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08D3D-D306-471C-92F4-306F5A1E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08308-2BBA-447F-A509-1E4801D2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7DD73-5B5C-4C74-A9B2-6FDEAC4F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811-736D-41FB-8469-524B8B88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17A3-B1A0-4391-845C-EF183F90312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8EF6-E80D-4214-8BE9-AF7F60267B4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3353-FB01-4FD8-A4BF-7FD05EA127A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1210-2EB4-4EE5-A3D9-6D039E3FF3C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0F32-92BD-402D-A4AB-F6DA81451F8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5D6B-D5F1-4DA5-A308-B922C1325BD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97FD-7105-4492-8F56-85005FCE8BF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.uk/imgres?imgurl=http://www.dvdbeaver.com/film2/DVDReviews28/a%2520paul%2520robeson%2520portraits%2520of%2520the%2520artist/a%2520sanders%2520of%2520the%2520river%2520ROBESON_DISC03-0(1).jpg&amp;imgrefurl=http://www.dvdbeaver.com/film2/DVDReviews28/paul_robeson_portraits_of_the_artist.htm&amp;usg=__2n11rLcwZwbeMeXekfZDRcVcW9E=&amp;h=540&amp;w=720&amp;sz=45&amp;hl=en&amp;start=1&amp;zoom=1&amp;um=1&amp;itbs=1&amp;tbnid=v2FhMOV0EloofM:&amp;tbnh=105&amp;tbnw=140&amp;prev=/images%3Fq%3Dsanders%2Bof%2Bthe%2Briver%26um%3D1%26hl%3Den%26safe%3Dactive%26sa%3DN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imgres?imgurl=http://en.academic.ru/pictures/enwiki/70/Four_Feathers_1939.jpg&amp;imgrefurl=http://en.academic.ru/dic.nsf/enwiki/2847375&amp;usg=__Ixi-r4J2vQI0eNbp5GTOinZwxQk=&amp;h=621&amp;w=400&amp;sz=128&amp;hl=en&amp;start=7&amp;zoom=1&amp;um=1&amp;itbs=1&amp;tbnid=uaa8dBAvBFQQqM:&amp;tbnh=136&amp;tbnw=88&amp;prev=/images%3Fq%3Dthe%2Bfour%2Bfeathers%2B1939%26um%3D1%26hl%3Den%26safe%3Dactive%26tbs%3Disch: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co.uk/imgres?imgurl=http://img.dailymail.co.uk/i/pix/2008/01_02/zuluL_468x383.jpg&amp;imgrefurl=http://www.dailymail.co.uk/news/article-506654/Cambridge-student-shopped-ex-girlfriend-stealing-priceless-Zulu-pen.html&amp;usg=__wSApwk5HHuqaPgGACg8yhyhCkGU=&amp;h=383&amp;w=468&amp;sz=46&amp;hl=en&amp;start=15&amp;zoom=1&amp;um=1&amp;itbs=1&amp;tbnid=uhrwQodTW2CXaM:&amp;tbnh=105&amp;tbnw=128&amp;prev=/images%3Fq%3DZulu%2Bfilm%26um%3D1%26hl%3Den%26safe%3Dactive%26tbs%3Disch:1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ogle.co.uk/imgres?imgurl=http://images.askmen.com/galleries/model/naomi-campbell/pictures/naomi-campbell-picture-1.jpg&amp;imgrefurl=http://www.askmen.com/celebs/women/models/17_naomi_campbell.html&amp;usg=__XVz1gPr8-vppKZwhLoDL34h8nH4=&amp;h=490&amp;w=376&amp;sz=50&amp;hl=en&amp;start=2&amp;zoom=1&amp;um=1&amp;itbs=1&amp;tbnid=DDk53YzJCX-xUM:&amp;tbnh=130&amp;tbnw=100&amp;prev=/images%3Fq%3Dnaomi%2Bcampbell%26um%3D1%26hl%3Den%26safe%3Dactive%26sa%3DN%26tbs%3Disch:1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google.co.uk/imgres?imgurl=http://images.allmoviephoto.com/2006_The_Painted_Veil/2006_the_painted_veil_wallpaper_003.jpg&amp;imgrefurl=http://www.allmoviephoto.com/photo/2006_the_painted_veil_wallpaper_003.html&amp;usg=__B5G9MNFWYXGcDlE_fxZ8SmoVNL8=&amp;h=1024&amp;w=1280&amp;sz=195&amp;hl=en&amp;start=7&amp;zoom=1&amp;um=1&amp;itbs=1&amp;tbnid=AtRhCWoop6OvVM:&amp;tbnh=120&amp;tbnw=150&amp;prev=/images%3Fq%3Dthe%2Bpainted%2Bveil%26um%3D1%26hl%3Den%26safe%3Dactive%26sa%3DN%26tbs%3Disch:1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usvetdsp.com/gifs/muslim_girl.jpg&amp;imgrefurl=http://www.usvetdsp.com/&amp;usg=__pugGB6d9lMkm7ND7zHED10WecTU=&amp;h=387&amp;w=288&amp;sz=62&amp;hl=en&amp;start=5&amp;zoom=1&amp;um=1&amp;itbs=1&amp;tbnid=XNu3pTLtBLbcJM:&amp;tbnh=123&amp;tbnw=92&amp;prev=/images%3Fq%3Dmuslim%26um%3D1%26hl%3Den%26safe%3Dactive%26sa%3DN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o.uk/imgres?imgurl=http://img.dailymail.co.uk/i/pix/2007/11_02/muslimDM1511_468x310.jpg&amp;imgrefurl=http://www.dailymail.co.uk/news/article-538808/Whites-help-Muslims-feel-home-says-research-group.html&amp;usg=__KtaP--yN2kBBht1bpFloW44uFlQ=&amp;h=310&amp;w=468&amp;sz=33&amp;hl=en&amp;start=4&amp;zoom=1&amp;um=1&amp;itbs=1&amp;tbnid=Eld3nZ7XgF96QM:&amp;tbnh=85&amp;tbnw=128&amp;prev=/images%3Fq%3Dmuslim%26um%3D1%26hl%3Den%26safe%3Dactive%26sa%3DN%26tbs%3Disch:1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images.allmoviephoto.com/2006_The_Painted_Veil/2006_the_painted_veil_wallpaper_003.jpg&amp;imgrefurl=http://www.allmoviephoto.com/photo/2006_the_painted_veil_wallpaper_003.html&amp;usg=__B5G9MNFWYXGcDlE_fxZ8SmoVNL8=&amp;h=1024&amp;w=1280&amp;sz=195&amp;hl=en&amp;start=7&amp;zoom=1&amp;um=1&amp;itbs=1&amp;tbnid=AtRhCWoop6OvVM:&amp;tbnh=120&amp;tbnw=150&amp;prev=/images%3Fq%3Dthe%2Bpainted%2Bveil%26um%3D1%26hl%3Den%26safe%3Dactive%26sa%3DN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.uk/imgres?imgurl=http://images.allmoviephoto.com/2006_The_Painted_Veil/2006_the_painted_veil_wallpaper_003.jpg&amp;imgrefurl=http://www.allmoviephoto.com/photo/2006_the_painted_veil_wallpaper_003.html&amp;usg=__B5G9MNFWYXGcDlE_fxZ8SmoVNL8=&amp;h=1024&amp;w=1280&amp;sz=195&amp;hl=en&amp;start=7&amp;zoom=1&amp;um=1&amp;itbs=1&amp;tbnid=AtRhCWoop6OvVM:&amp;tbnh=120&amp;tbnw=150&amp;prev=/images%3Fq%3Dthe%2Bpainted%2Bveil%26um%3D1%26hl%3Den%26safe%3Dactive%26sa%3DN%26tbs%3Disch: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catchavibe.co.uk/wp-content/uploads/2010/08/Lenny_Henry_08.aspx_.jpg&amp;imgrefurl=http://www.catchavibe.co.uk/lenny-henry/16834/&amp;usg=__0I2GM43-8Ofwi0XPg0n9oJBraNs=&amp;h=320&amp;w=259&amp;sz=11&amp;hl=en&amp;start=3&amp;zoom=1&amp;um=1&amp;itbs=1&amp;tbnid=C_5THdG8drP-7M:&amp;tbnh=118&amp;tbnw=96&amp;prev=/images%3Fq%3Dlenny%2Bhenry%255D%26um%3D1%26hl%3Den%26safe%3Dactive%26tbs%3Disch: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google.co.uk/imgres?imgurl=http://images.askmen.com/galleries/model/naomi-campbell/pictures/naomi-campbell-picture-1.jpg&amp;imgrefurl=http://www.askmen.com/celebs/women/models/17_naomi_campbell.html&amp;usg=__XVz1gPr8-vppKZwhLoDL34h8nH4=&amp;h=490&amp;w=376&amp;sz=50&amp;hl=en&amp;start=2&amp;zoom=1&amp;um=1&amp;itbs=1&amp;tbnid=DDk53YzJCX-xUM:&amp;tbnh=130&amp;tbnw=100&amp;prev=/images%3Fq%3Dnaomi%2Bcampbell%26um%3D1%26hl%3Den%26safe%3Dactive%26tbs%3Disch: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co.uk/imgres?imgurl=http://cdn.wn.com/pd/df/1a/8e70aa6532cc9e1e03dbcb375348_grande.jpg&amp;imgrefurl=http://article.wn.com/view/2010/04/24/How_theyll_fight_poverty_hunger/&amp;usg=__Xh2e6nST-cSUeXeUabL9BAaYoaw=&amp;h=351&amp;w=468&amp;sz=39&amp;hl=en&amp;start=15&amp;zoom=1&amp;um=1&amp;itbs=1&amp;tbnid=Gbcgp1yhBMBgcM:&amp;tbnh=96&amp;tbnw=128&amp;prev=/images%3Fq%3Dblack%2Bbaby%2Bflies%2Bpoverty%26um%3D1%26hl%3Den%26safe%3Dactive%26tbs%3Disch:1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www.google.co.uk/imgres?imgurl=http://ejpress.org/userfiles/image/youssouf%2520fofana%25202.jpg&amp;imgrefurl=http://www.stormfront.org/forum/t619071/&amp;usg=__Xc5ChSGV2UL9tAZbIfwgnTlq-k8=&amp;h=450&amp;w=340&amp;sz=45&amp;hl=en&amp;start=12&amp;zoom=1&amp;um=1&amp;itbs=1&amp;tbnid=kP_LkCwCa1MdPM:&amp;tbnh=127&amp;tbnw=96&amp;prev=/images%3Fq%3Dblack%2Bgang%26um%3D1%26hl%3Den%26safe%3Dactive%26tbs%3Disch:1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blogs.warwick.ac.uk/images/michaelwalford/2008/07/18/knightley_bend_it_like_beckham_1.jpg%3FmaxWidth%3D500&amp;imgrefurl=http://blogs.warwick.ac.uk/michaelwalford/tag/bend_it_like_beckham/&amp;usg=__ur_5YpIPPU8Q_jrGtzI6-yh8UbY=&amp;h=400&amp;w=300&amp;sz=42&amp;hl=en&amp;start=8&amp;zoom=1&amp;um=1&amp;itbs=1&amp;tbnid=QrvLKN4Y7pS4HM:&amp;tbnh=124&amp;tbnw=93&amp;prev=/images%3Fq%3Dbend%2Bit%2Blike%2Bbeckham%26um%3D1%26hl%3Den%26safe%3Dactive%26tbs%3Disch:1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google.co.uk/imgres?imgurl=http://www.dartmouth.edu/~lhc/files/images/bride_prejudice.jpg&amp;imgrefurl=http://www.dartmouth.edu/~lhc/events/2006/bollywood.html&amp;usg=__9zBhG_6m-kK4R7SJFE9re0JIf0M=&amp;h=300&amp;w=330&amp;sz=24&amp;hl=en&amp;start=1&amp;zoom=1&amp;um=1&amp;itbs=1&amp;tbnid=co8q6UrDfpxtOM:&amp;tbnh=108&amp;tbnw=119&amp;prev=/images%3Fq%3Dbride%2Band%2Bprejudice%26um%3D1%26hl%3Den%26safe%3Dactive%26tbs%3Disch:1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dvdbeaver.com/film2/DVDReviews28/a%2520paul%2520robeson%2520portraits%2520of%2520the%2520artist/a%2520sanders%2520of%2520the%2520river%2520ROBESON_DISC03-0(1).jpg&amp;imgrefurl=http://www.dvdbeaver.com/film2/DVDReviews28/paul_robeson_portraits_of_the_artist.htm&amp;usg=__2n11rLcwZwbeMeXekfZDRcVcW9E=&amp;h=540&amp;w=720&amp;sz=45&amp;hl=en&amp;start=1&amp;zoom=1&amp;um=1&amp;itbs=1&amp;tbnid=v2FhMOV0EloofM:&amp;tbnh=105&amp;tbnw=140&amp;prev=/images%3Fq%3Dsanders%2Bof%2Bthe%2Briver%26um%3D1%26hl%3Den%26safe%3Dactive%26sa%3DN%26tbs%3Disch: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.uk/imgres?imgurl=http://en.academic.ru/pictures/enwiki/70/Four_Feathers_1939.jpg&amp;imgrefurl=http://en.academic.ru/dic.nsf/enwiki/2847375&amp;usg=__Ixi-r4J2vQI0eNbp5GTOinZwxQk=&amp;h=621&amp;w=400&amp;sz=128&amp;hl=en&amp;start=7&amp;zoom=1&amp;um=1&amp;itbs=1&amp;tbnid=uaa8dBAvBFQQqM:&amp;tbnh=136&amp;tbnw=88&amp;prev=/images%3Fq%3Dthe%2Bfour%2Bfeathers%2B1939%26um%3D1%26hl%3Den%26safe%3Dactive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.uk/imgres?imgurl=http://img.dailymail.co.uk/i/pix/2008/01_02/zuluL_468x383.jpg&amp;imgrefurl=http://www.dailymail.co.uk/news/article-506654/Cambridge-student-shopped-ex-girlfriend-stealing-priceless-Zulu-pen.html&amp;usg=__wSApwk5HHuqaPgGACg8yhyhCkGU=&amp;h=383&amp;w=468&amp;sz=46&amp;hl=en&amp;start=15&amp;zoom=1&amp;um=1&amp;itbs=1&amp;tbnid=uhrwQodTW2CXaM:&amp;tbnh=105&amp;tbnw=128&amp;prev=/images%3Fq%3DZulu%2Bfilm%26um%3D1%26hl%3Den%26safe%3Dactive%26tbs%3Disch:1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hristie_Brinkley_by_David_Shankbone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LindaEvangelista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File:Laetitia_Casta_1999.jpg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en.wikipedia.org/wiki/File:Gisele_B_edit.jp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hyperlink" Target="http://www.google.co.uk/imgres?imgurl=http://images.askmen.com/galleries/model/naomi-campbell/pictures/naomi-campbell-picture-1.jpg&amp;imgrefurl=http://www.askmen.com/celebs/women/models/17_naomi_campbell.html&amp;usg=__XVz1gPr8-vppKZwhLoDL34h8nH4=&amp;h=490&amp;w=376&amp;sz=50&amp;hl=en&amp;start=2&amp;zoom=1&amp;um=1&amp;itbs=1&amp;tbnid=DDk53YzJCX-xUM:&amp;tbnh=130&amp;tbnw=100&amp;prev=/images%3Fq%3Dnaomi%2Bcampbell%26um%3D1%26hl%3Den%26safe%3Dactive%26sa%3DN%26tbs%3Disch:1" TargetMode="External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 Level Media Stud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5" descr="a%2520sanders%2520of%2520the%2520river%2520ROBESON_DISC03-0(1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240" y="500040"/>
            <a:ext cx="2305080" cy="173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Four_Feathers_19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80360" y="2565360"/>
            <a:ext cx="1333440" cy="2060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zuluL_468x38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29280" y="5000760"/>
            <a:ext cx="1800360" cy="1476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9" descr="naomi-campbell-picture-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72120" y="2571840"/>
            <a:ext cx="1096920" cy="1425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2006_the_painted_veil_wallpaper_003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714920" y="3571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3"/>
          <p:cNvPicPr/>
          <p:nvPr/>
        </p:nvPicPr>
        <p:blipFill>
          <a:blip r:embed="rId12"/>
          <a:stretch/>
        </p:blipFill>
        <p:spPr>
          <a:xfrm>
            <a:off x="4572000" y="1785960"/>
            <a:ext cx="1285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slim Represent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oking through the daily papers, what is the dominant representation of Muslim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4508640"/>
            <a:ext cx="1184400" cy="15843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4869000"/>
            <a:ext cx="2016000" cy="1338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3564000" y="3933720"/>
            <a:ext cx="1228680" cy="943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4788000" y="3710160"/>
            <a:ext cx="172872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eptember 11th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st-colonialism has a particular relevance following the events of 9/11 and the subsequent invasions of Afghanistan and Iraq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s is an example of military imperialism in which the Western powers are intent on imposing ‘democracy’ on Islamic countries in the belief that it is in their best interest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e Painted Veil (2006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t in the 1920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British doctor takes his wife to live in a small Chinese villag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e fights an outbreak of cholera but is hindered by Chinese politic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inese culture is portrayed as fascinating yet threatenin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olera is a metaphor for a deep sickness in the country that only a British doctor can comba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9" name="Picture 5" descr="2006_the_painted_veil_wallpaper_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1224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2006_the_painted_veil_wallpaper_0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epresenta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ultural stereotyp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estern culture has often defined itself in relation to the ‘other’ of non-Western cultur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‘other’ are seen as exotic…exciting…dangerous…romantic…mysterious…threatenin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mplex, sophisticated cultures are reduced to a few simple components whose sole function is to serve the interests of the dominant metropolitan cultur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G. Advertisers offer consumers a “taste of the East” or “the mysteries of the Orient”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lvarado (1987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epresentations of black people are founded on negative historical myths from the colonial pas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uggests there are four types of representation for members of the black communit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HUMOUROUS – comedia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EXOTIC – model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PITIED – Live Ai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DANGEROUS – inner city gang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5" name="Picture 5" descr="Lenny_Henry_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85080" y="3213000"/>
            <a:ext cx="914400" cy="1123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naomi-campbell-picture-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3789360"/>
            <a:ext cx="952560" cy="1238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8e70aa6532cc9e1e03dbcb375348_grand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40720" y="472428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youssouf%2520fofana%252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20000" y="5373720"/>
            <a:ext cx="9144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ereotyp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ositive and negative stereotypes are often seen in contemporary British med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usicians – jazz, hip-hop and sou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portsmen and wom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omedia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iminal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cially dysfunctiona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stitute/sexually promiscuou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stud/pimp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aspora Identit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Where people experience both a sense of belonging to a cultural group that is ‘other’ to the dominant culture of their country of residenc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is sense of alienation or ‘otherness’ is emphasised by a lack in the contemporary media of any cultural representations of their lives or experienc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It is not always negativ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Gurinder Chadha – Bend it like Beckham (2002), Bride and Prejudice (2004) – represented Asian culture in film in a non stereotypical wa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3" name="Picture 5" descr="knightley_bend_it_like_beckham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1800" y="0"/>
            <a:ext cx="1222200" cy="1628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bride_prejudic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649840"/>
            <a:ext cx="13320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Key ques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re ethnic stereotypes challenged or reinforced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o the contemporary media represent the ethnic diversity of society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o speaks for whom in the media? Are members of other cultures given the opportunity to represent themselves or are their ideas and opinions filtered by a cultural intermediary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o do I identify as ‘belonging’ in my culture?  Do I belong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Resident Evil 5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Released March 200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Central to the game’s controversy is its West Africa loca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hite heroes, black African villai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Producers had to make changes after criticis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Zombies – connotatio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5929200" y="4786200"/>
            <a:ext cx="268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ultural Imperi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An important function of the media is in winning the support of people to the interests of the dominant class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The media also constitute a potential tool for control by dominant Western cultures over those developing countri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The Western way of life and its economic/political systems can be imposed on other societies as its lifestyle is sold through media products such as film and televis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The most dominant culture exporting media products is the USA. Eg Hollywood cine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This is know as </a:t>
            </a: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CULTURAL IMPERIALISM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st-coloni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ost European countries, including the UK have a history of military imperial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y would conquer less developed countries and impose their rule on the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s was usually to ensure a supply of cheap materials from that country to help support the econom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mer British colonies include India, South Africa, Australia, Jamaica and the USA – at one point, GB ruled half the worl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st-coloni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0920" y="1557360"/>
            <a:ext cx="824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se colonies eventually became independent and set up their own government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However, it can be argued that much of the culture of the imperial countries (eg. Their language) still lingers on in the former colonies as a reminder of colonial rul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lso, the process of decolonisation has not prevented the Western powers from tightening their economic grip on the rest of the worl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 wealth of economically developed countries increasingly depends on the cheap labour and raw materials supplied by the Third Worl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st-coloni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Picture 5" descr="a%2520sanders%2520of%2520the%2520river%2520ROBESON_DISC03-0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8428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6"/>
          <p:cNvSpPr/>
          <p:nvPr/>
        </p:nvSpPr>
        <p:spPr>
          <a:xfrm>
            <a:off x="3348000" y="177336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of the River’ (1935) portrayed ideologies naturalising coloni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8" descr="Four_Feathers_19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2565360"/>
            <a:ext cx="1333440" cy="20606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9"/>
          <p:cNvSpPr/>
          <p:nvPr/>
        </p:nvSpPr>
        <p:spPr>
          <a:xfrm>
            <a:off x="3851280" y="342900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our Feathers (1939) suggested the key role of the British army was to bring a civilising influence to India and Egyp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11" descr="zuluL_468x3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4724280"/>
            <a:ext cx="1800000" cy="14763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2"/>
          <p:cNvSpPr/>
          <p:nvPr/>
        </p:nvSpPr>
        <p:spPr>
          <a:xfrm>
            <a:off x="2916360" y="57340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ulu (1964) represented the Zulu tribe in Africa as violent sava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3"/>
          <p:cNvSpPr/>
          <p:nvPr/>
        </p:nvSpPr>
        <p:spPr>
          <a:xfrm flipV="1">
            <a:off x="2987640" y="2707920"/>
            <a:ext cx="720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4"/>
          <p:cNvSpPr/>
          <p:nvPr/>
        </p:nvSpPr>
        <p:spPr>
          <a:xfrm>
            <a:off x="2484360" y="5373720"/>
            <a:ext cx="863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5"/>
          <p:cNvSpPr/>
          <p:nvPr/>
        </p:nvSpPr>
        <p:spPr>
          <a:xfrm flipV="1">
            <a:off x="5724360" y="4581000"/>
            <a:ext cx="165600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3"/>
          <p:cNvPicPr/>
          <p:nvPr/>
        </p:nvPicPr>
        <p:blipFill>
          <a:blip r:embed="rId1"/>
          <a:stretch/>
        </p:blipFill>
        <p:spPr>
          <a:xfrm>
            <a:off x="250920" y="333360"/>
            <a:ext cx="5761080" cy="61912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6"/>
          <p:cNvSpPr/>
          <p:nvPr/>
        </p:nvSpPr>
        <p:spPr>
          <a:xfrm>
            <a:off x="6877080" y="836640"/>
            <a:ext cx="151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deology suggests that black skin is undesirable and white skin is desir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6443640" y="4149720"/>
            <a:ext cx="24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mages like this helped reinforce a sense of superiority of colonising populations and marginality of the colonised African countr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5219640" y="3141720"/>
            <a:ext cx="1944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9"/>
          <p:cNvSpPr/>
          <p:nvPr/>
        </p:nvSpPr>
        <p:spPr>
          <a:xfrm>
            <a:off x="5364000" y="5373720"/>
            <a:ext cx="1008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st-Coloni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st-colonialism does not emphasise a new, technologically inter-related media world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ut the importance of the cultural, economic, political and military dominance of the pas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absence of non-white images in the media visually suggests a dominance of white cultur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220px-Christie_Brinkley_by_David_Shankb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14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LindaEvangelist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189000"/>
            <a:ext cx="1455840" cy="2881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220px-Laetitia_Casta_19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64000" y="549360"/>
            <a:ext cx="1646280" cy="2305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210px-Gisele_B_edi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328464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10. Carolyn Murphy - $US3 million (3.75 million)"/>
          <p:cNvPicPr/>
          <p:nvPr/>
        </p:nvPicPr>
        <p:blipFill>
          <a:blip r:embed="rId9"/>
          <a:stretch/>
        </p:blipFill>
        <p:spPr>
          <a:xfrm>
            <a:off x="7020000" y="3860640"/>
            <a:ext cx="1752480" cy="2197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9. Miranda Kerr - $US3 million (3.75 million)"/>
          <p:cNvPicPr/>
          <p:nvPr/>
        </p:nvPicPr>
        <p:blipFill>
          <a:blip r:embed="rId10"/>
          <a:stretch/>
        </p:blipFill>
        <p:spPr>
          <a:xfrm>
            <a:off x="3203640" y="404640"/>
            <a:ext cx="1706400" cy="2559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7" descr="Miranda Kerr"/>
          <p:cNvPicPr/>
          <p:nvPr/>
        </p:nvPicPr>
        <p:blipFill>
          <a:blip r:embed="rId11"/>
          <a:stretch/>
        </p:blipFill>
        <p:spPr>
          <a:xfrm>
            <a:off x="4643280" y="3429000"/>
            <a:ext cx="1941840" cy="2965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9" descr="naomi-campbell-picture-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56000" y="3789360"/>
            <a:ext cx="18842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Orient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00000" y="1557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dward Said (1978) – a key tex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ritique of Western representations of Eastern cultur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n-Western cultures are represented through Western eyes largely because of the impact of cultural imperialism through the power of Western medi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t can be argued that whenever Islam is represented, it is shown through a Western perspective that usually fails to understand the nature and complexity of Islamic belief and cultur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stead, it reduces it to a few stereotypical characteristic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this way, the sense of oppression is just as great as if the colonies still exist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3:57:38Z</dcterms:created>
  <dc:creator>gbrolly940</dc:creator>
  <dc:description/>
  <dc:language>en-US</dc:language>
  <cp:lastModifiedBy>gbrolly940</cp:lastModifiedBy>
  <dcterms:modified xsi:type="dcterms:W3CDTF">2010-11-18T10:52:30Z</dcterms:modified>
  <cp:revision>36</cp:revision>
  <dc:subject/>
  <dc:title>Post-Colonialism</dc:title>
</cp:coreProperties>
</file>